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EC129-9476-468F-84E4-DB4D42826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E43FD-61BE-446E-8C39-E7900EC21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4863A-DA2F-4F9B-8861-F80E5EDEA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87B8C-CBA4-4CA4-9670-6380D077A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D3276-C9A9-418D-9388-79148780B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4B72F-6B24-4515-8A05-D5E089A1C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8423A-571B-4A4F-986F-2CA949809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A2912-DCA0-4A36-B5FD-49E4FEDE1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D561B-FB21-448C-A29B-FD483EB22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8EB47-928A-46AC-A3A8-7D7860B80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19C4A-E8DE-405E-9987-112111BF0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C1207-E28E-4C8B-884F-B820FDD4F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13FE6-51CF-41C3-925A-7D242E8E7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354FA-B023-41D5-96E5-3FC860179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E8038-7D61-427F-93AE-451CB189F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264C2-EADD-4F20-90FB-60366A705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A8483-7CF7-4447-85BD-206EBA851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C4BB1-8C97-4144-A348-497E58282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B2CB0-F94C-41FA-8A4A-2D09F6426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309A9-8460-431E-906D-69C990A4A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2722F-C69C-4F29-BD94-9B4C408F2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AF5C4-C9F2-45ED-9A88-0FE3D0BA8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CE92B-3D2E-47C7-9A21-8C21A6E53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43D95-1CED-4F2E-8790-97307510D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CF0770-969E-4A8B-ADF5-AF103ACD6EE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57200" y="6356520"/>
            <a:ext cx="8229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is article and any supplementary material should be cited as follows:  Melcer T, Belnap B, Walker GJ, Konoske P, Galarneau M. Heterotopic ossification in combat amputees from Afghanistan and Iraq wars: Five case histories and results from a small series of patients. J Rehabil Res Dev. 2011; 48(1):1–12.  DOI:10.1682/JRRD.2010.03.0033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9D0911-C0D9-435F-A93A-63F4078698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owerpoint background 27%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" name="TextBox 7"/>
          <p:cNvSpPr/>
          <p:nvPr/>
        </p:nvSpPr>
        <p:spPr>
          <a:xfrm>
            <a:off x="457200" y="6264360"/>
            <a:ext cx="8229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his article and any supplementary material should be cited as follows: Hinojosa R, Hinojosa MS. Using military friendships to optimize postdeployment reintegration for male Operation Iraqi Freedom/Operation Enduring Freedom veterans. J Rehabil Res Dev. 2011;48(10):1145–58. DOI:10.1682/JRRD.2010.08.0151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TextBox 9"/>
          <p:cNvSpPr/>
          <p:nvPr/>
        </p:nvSpPr>
        <p:spPr>
          <a:xfrm>
            <a:off x="6719760" y="531720"/>
            <a:ext cx="2424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lideshow Proj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OI:10.1682/JRRD.2010.08.0151JS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7" descr="Powerpoint background 27%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TextBox 7"/>
          <p:cNvSpPr/>
          <p:nvPr/>
        </p:nvSpPr>
        <p:spPr>
          <a:xfrm>
            <a:off x="457200" y="6264360"/>
            <a:ext cx="8229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his article and any supplementary material should be cited as follows: Hinojosa R, Hinojosa MS. Using military friendships to optimize postdeployment reintegration for male Operation Iraqi Freedom/Operation Enduring Freedom veterans. J Rehabil Res Dev. 2011;48(10):1145–58. DOI:10.1682/JRRD.2010.08.0151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9"/>
          <p:cNvSpPr/>
          <p:nvPr/>
        </p:nvSpPr>
        <p:spPr>
          <a:xfrm>
            <a:off x="6719760" y="531720"/>
            <a:ext cx="2424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lideshow Proj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OI:10.1682/JRRD.2010.08.0151JS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E708B69-78D0-462E-A7D0-DF7EA2F53D4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457200" y="6356520"/>
            <a:ext cx="8229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898989"/>
                </a:solidFill>
                <a:latin typeface="Calibri"/>
              </a:rPr>
              <a:t>This article and any supplementary material should be cit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898989"/>
                </a:solidFill>
                <a:latin typeface="Calibri"/>
              </a:rPr>
              <a:t>as follows: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898989"/>
                </a:solidFill>
                <a:latin typeface="Calibri"/>
              </a:rPr>
              <a:t>Wier LM, Hatcher MS, Triche EW, Lo AC. Effect of robotassist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898989"/>
                </a:solidFill>
                <a:latin typeface="Calibri"/>
              </a:rPr>
              <a:t>versus conventional body-weight-supported treadmil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898989"/>
                </a:solidFill>
                <a:latin typeface="Calibri"/>
              </a:rPr>
              <a:t>training on quality of life for people with multiple sclerosi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898989"/>
                </a:solidFill>
                <a:latin typeface="Calibri"/>
              </a:rPr>
              <a:t>J Rehabil Res Dev. 2011;48(4):XX–XX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898989"/>
                </a:solidFill>
                <a:latin typeface="Calibri"/>
              </a:rPr>
              <a:t>DOI:10.1682/JRRD/2010.03.003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64CEF5-132C-471B-A6E7-02318B1DA6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0001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Using military friendships to optimize postdeployment reintegration for male Operation Iraqi Freedom/Operation Enduring Freedom veteran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72880" y="5092560"/>
            <a:ext cx="8701200" cy="93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Ramon Hinojosa, PhD; Melanie Sberna Hinojosa, Ph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87480" y="971280"/>
            <a:ext cx="8743680" cy="477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udy Ai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nterview male Operation Iraqi Freedom/Operation Enduring Freedom (OIF/OEF) veterans to demonstrate that members of a military unit should be considered a resource that helps, not impedes, the “family” reintegration process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levanc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ole of social relationships in health outcomes is area of growing research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ostdeployment literature typically cites former military unit members as obstacles to family reintegration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46160"/>
            <a:ext cx="8229600" cy="67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etho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307800" y="1184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ducted structured interviews with 20 OIF/OEF Reserve component and Army National Guard men about their deployment and reintegration experienc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d Grounded Theory Method to organize and code experiences collected from interviews, allowing identification and analysis of commonalities and variations in personal experienc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6156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/Conclu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85840" y="1125000"/>
            <a:ext cx="8400960" cy="501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portance of military friendships in dealing with deployment was evident in how the men talked about their experience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ilitary friendships helped veterans deal with the emotional strains of family separation during deploymen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ilitary friendships may be important during postdeployment reintegration and an important clinical resource for clinicians helping veterans transition into civilian society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ilitary friendships helped veterans deal with the emotional strains of the early family reintegration perio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8T23:56:05Z</dcterms:created>
  <dc:creator>Manuel Torres</dc:creator>
  <dc:description/>
  <dc:language>en-US</dc:language>
  <cp:lastModifiedBy>EIE Desktop Technologies</cp:lastModifiedBy>
  <dcterms:modified xsi:type="dcterms:W3CDTF">2012-01-06T18:02:11Z</dcterms:modified>
  <cp:revision>87</cp:revision>
  <dc:subject/>
  <dc:title>Heterotopic ossification in combat amputees from Afghanistan and Iraq wars: Five case histories and results from  a small series of patients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MarkAsFinal">
    <vt:bool>1</vt:bool>
  </property>
</Properties>
</file>