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28C2-EC4C-442D-9897-CC514DFCF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AA16-EBCA-43F1-9CC7-28650198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D73A-C974-4B21-A712-8373415F0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9C8E-9531-4F95-8D5A-559F46190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FE3F-010C-417B-877A-E2B643A2B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5F6F-5A76-4D48-B7F2-1E6CD334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2745-ABC7-4F22-91A4-E98F079A3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7D59-FD62-4225-977D-4C9F667A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A60F-FD04-42B0-B536-9E73D1B3E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B1C9F-A1C0-474D-955B-33857F28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4038B-FD87-4496-BA49-95F5FCE1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BE52-BF80-42DC-9C55-1182ED384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973A-7CAC-4A67-B6A2-2C4B78E6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09FF1-0413-46BA-AA78-CD725319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2893-4084-4F21-8F1B-9E7319936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7916-DB20-417B-AA93-1F4686605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B4EF-4A48-4775-B6E0-A0D376D56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A324-826F-4FCD-8C8B-5C8251100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32C0-7583-4352-BE7B-2944FAD3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439E-D83F-4F4C-9168-DE0920DF5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EA6A-24EF-47A7-AD6C-057CB50E7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B81B-ED87-4DFC-9DAF-7A36EF42C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BDC6-EF3B-4A21-A70B-3B7DDC1E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06CD-C0E7-456D-B83B-32371162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FDF448-44E5-4A2B-AC97-D7B756337CB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7200" y="6356520"/>
            <a:ext cx="8229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is article and any supplementary material should be cited as follows:  Melcer T, Belnap B, Walker GJ, Konoske P, Galarneau M. Heterotopic ossification in combat amputees from Afghanistan and Iraq wars: Five case histories and results from a small series of patients. J Rehabil Res Dev. 2011; 48(1):1–12.  DOI:10.1682/JRRD.2010.03.003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5A0709-A91D-4D56-A135-477B9D37AF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owerpoint background 27%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TextBox 7"/>
          <p:cNvSpPr/>
          <p:nvPr/>
        </p:nvSpPr>
        <p:spPr>
          <a:xfrm>
            <a:off x="457200" y="624348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s article and any supplementary material should be cited as follows: Gerschutz MJ, Haynes ML, Nixon DM, Colvin JM. Tensile strength and impact resistance properties of materials used in prosthetic check sockets, copolymer sockets, and definitive laminated sockets. J Rehabil Res Dev. 2011;48(8):987–1004. DOI:10.1682/JRRD.2010.10.02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Powerpoint background 27%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7"/>
          <p:cNvSpPr/>
          <p:nvPr/>
        </p:nvSpPr>
        <p:spPr>
          <a:xfrm>
            <a:off x="457200" y="624348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s article and any supplementary material should be cited as follows: Gerschutz MJ, Haynes ML, Nixon DM, Colvin JM. Tensile strength and impact resistance properties of materials used in prosthetic check sockets, copolymer sockets, and definitive laminated sockets. J Rehabil Res Dev. 2011;48(8):987–1004. DOI:10.1682/JRRD.2010.10.02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5A1BD4-D190-4EC4-AA98-CE2A5D87200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7200" y="6356520"/>
            <a:ext cx="8229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1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alibri"/>
              </a:rPr>
              <a:t>This article and any supplementary material should be ci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alibri"/>
              </a:rPr>
              <a:t>as follows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alibri"/>
              </a:rPr>
              <a:t>Wier LM, Hatcher MS, Triche EW, Lo AC. Effect of robotassist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alibri"/>
              </a:rPr>
              <a:t>versus conventional body-weight-supported treadmil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alibri"/>
              </a:rPr>
              <a:t>training on quality of life for people with multiple sclerosis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alibri"/>
              </a:rPr>
              <a:t>J Rehabil Res Dev. 2011;48(4):XX–XX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Calibri"/>
              </a:rPr>
              <a:t>DOI:10.1682/JRRD/2010.03.003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383D78-6C30-4C86-8CEA-6D454FE0C5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000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nsile strength and impact resistance properties of materials used in prosthetic check sockets, copolymer sockets,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finitive  laminated sock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72880" y="4838760"/>
            <a:ext cx="8701200" cy="93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ria J. Gerschutz, PhD; Michael L. Haynes, M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rek M. Nixon, BS; James M. Colvin, 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0944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77840" y="1092240"/>
            <a:ext cx="8750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udy A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6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valuate tensile and impact properties of latest materials used to fabricate prosthetic check, copolymer, and definitive laminated socket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62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lev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6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though most prosthetic socket materials have been used for years, few are backed up by objective evaluations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6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ithout knowledge of basic properties, trying new methods/materials risks violating long-forgotten lessons and patient safet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62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9720" y="74160"/>
            <a:ext cx="8229600" cy="89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mparisons Analyze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Content Placeholder 6" descr="Picture 2.png"/>
          <p:cNvPicPr/>
          <p:nvPr/>
        </p:nvPicPr>
        <p:blipFill>
          <a:blip r:embed="rId1"/>
          <a:srcRect l="1954" t="2600" r="0" b="0"/>
          <a:stretch/>
        </p:blipFill>
        <p:spPr>
          <a:xfrm>
            <a:off x="79200" y="1517760"/>
            <a:ext cx="8982360" cy="35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lected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Content Placeholder 4" descr="Picture 3.png"/>
          <p:cNvPicPr/>
          <p:nvPr/>
        </p:nvPicPr>
        <p:blipFill>
          <a:blip r:embed="rId1"/>
          <a:stretch/>
        </p:blipFill>
        <p:spPr>
          <a:xfrm>
            <a:off x="216000" y="1584360"/>
            <a:ext cx="4038480" cy="275904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>
            <a:off x="203040" y="4419720"/>
            <a:ext cx="403884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w specimens and fabricated specimens significantly differed for all prosthetic socket material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G = polyethylene terephthalate glyco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6"/>
          <p:cNvSpPr/>
          <p:nvPr/>
        </p:nvSpPr>
        <p:spPr>
          <a:xfrm>
            <a:off x="571680" y="1047600"/>
            <a:ext cx="36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rmoplastic tensile str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Content Placeholder 8" descr="Picture 1.png"/>
          <p:cNvPicPr/>
          <p:nvPr/>
        </p:nvPicPr>
        <p:blipFill>
          <a:blip r:embed="rId2"/>
          <a:srcRect l="3903" t="0" r="0" b="0"/>
          <a:stretch/>
        </p:blipFill>
        <p:spPr>
          <a:xfrm>
            <a:off x="4913280" y="1546200"/>
            <a:ext cx="3976560" cy="2759040"/>
          </a:xfrm>
          <a:prstGeom prst="rect">
            <a:avLst/>
          </a:prstGeom>
          <a:ln w="0">
            <a:noFill/>
          </a:ln>
        </p:spPr>
      </p:pic>
      <p:sp>
        <p:nvSpPr>
          <p:cNvPr id="97" name="TextBox 9"/>
          <p:cNvSpPr/>
          <p:nvPr/>
        </p:nvSpPr>
        <p:spPr>
          <a:xfrm>
            <a:off x="4836960" y="4343400"/>
            <a:ext cx="430704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polymer: Impact resistance at 25.5 °C not reported because of incomplete breaks, suggesting influence of temperatur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socket materials: Only PETG was significantly affected by tempera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0"/>
          <p:cNvSpPr/>
          <p:nvPr/>
        </p:nvSpPr>
        <p:spPr>
          <a:xfrm>
            <a:off x="5122800" y="1047600"/>
            <a:ext cx="388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hermoplastic impact resist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3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erial properties determined in this study provide a foundation for understanding and improving quality of prosthetic sockets using current fabrication materials and a basis for evaluating future technologi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19:52:08Z</dcterms:created>
  <dc:creator>Manuel Torres</dc:creator>
  <dc:description/>
  <dc:language>en-US</dc:language>
  <cp:lastModifiedBy>Bartlinski, David (ACE)</cp:lastModifiedBy>
  <dcterms:modified xsi:type="dcterms:W3CDTF">2011-10-14T14:06:47Z</dcterms:modified>
  <cp:revision>86</cp:revision>
  <dc:subject/>
  <dc:title>Heterotopic ossification in combat amputees from Afghanistan and Iraq wars: Five case histories and results from  a small series of patient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