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750-A281-4447-B771-F28B65D6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B76-E2BF-499F-86FF-C72E3A9B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161-5BC8-4A6E-BA55-3226B53D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952-15FA-4E07-953F-2CC5CF86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61C5-1D03-4A75-9F6D-B9555BF6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BA46-18AB-480D-970E-A5C64D6C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1D85-9746-4F8A-B310-EBC9707F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00A4-6371-4A28-B224-7FBFB8EC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D28D-B8C1-4005-86A8-C33050BF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E30D-AEF9-4A49-A1C6-77BB0B61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F4EC-4936-4112-B9E9-83ADE71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6E7-E7A7-4A57-B5B8-F8DC91F2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4E6C-A201-4107-BD5A-557E0AF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C2D1-4021-4321-88C3-4806B7A8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5469-78A5-4717-AAD9-9F779AFE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2B8F-94DB-4E91-8195-BD6E9F51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CDCC-564D-44E6-9682-F031C750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FE0-EE82-4E27-978E-DBA29D01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114-F644-499C-881B-C96F4073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FAD-E001-4BAC-85A5-8F0C8B46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DD5-6241-4A29-A460-B00855C3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034-020B-4128-BAFA-FB371F17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29D-B155-4476-B290-328B464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BB8-C467-4A5A-B074-C11F0969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72E79-73B9-4CBE-B311-858707B0C5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s article and any supplementary material should be cited as follows:  Melcer T, Belnap B, Walker GJ, Konoske P, Galarneau M. Heterotopic ossification in combat amputees from Afghanistan and Iraq wars: Five case histories and results from a small series of patients. J Rehabil Res Dev. 2011; 48(1):1–12.  DOI:10.1682/JRRD.2010.03.00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76CF6-7572-4692-9DA8-F63B8FE8B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Box 7"/>
          <p:cNvSpPr/>
          <p:nvPr/>
        </p:nvSpPr>
        <p:spPr>
          <a:xfrm>
            <a:off x="231840" y="6265800"/>
            <a:ext cx="87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Gorgey AS, Gater DR. Insulin growth factors may explain relationship between spasticity and skeletal muscle size in men with spinal cord injury. J Rehabil Res Dev. 2012;49(3):373–80.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dx.doi.org/10.1682/JRRD.2011.04.007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8"/>
          <p:cNvSpPr/>
          <p:nvPr/>
        </p:nvSpPr>
        <p:spPr>
          <a:xfrm>
            <a:off x="6553080" y="531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I:10.1682/JRRD.2011.04.0076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31840" y="6265800"/>
            <a:ext cx="87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Gorgey AS, Gater DR. Insulin growth factors may explain relationship between spasticity and skeletal muscle size in men with spinal cord injury. J Rehabil Res Dev. 2012;49(3):373–80.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dx.doi.org/10.1682/JRRD.2011.04.007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6553080" y="531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I:10.1682/JRRD.2011.04.0076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26508-1CD9-49F2-B701-76E00C1D8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This article and any supplementary material should be ci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as follow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Wier LM, Hatcher MS, Triche EW, Lo AC. Effect of robotass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versus conventional body-weight-supported treadm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training on quality of life for people with multiple sclero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J Rehabil Res Dev. 2011;48(4):XX–X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DOI:10.1682/JRRD/2010.03.00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47582-5F33-4A9A-B48D-C8DB72E9C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9200" y="1866600"/>
            <a:ext cx="838692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ulin growth factors may explain relationship between spasticity and skeletal muscle size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 with spinal cord in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47156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hraf S. Gorgey, MPT, PhD, FACSM;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id R. Gater, MD, Ph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39480" y="1031760"/>
            <a:ext cx="811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 insulin-like growth factor-1 (IGF-1) in men with complete spinal cord injury (SCI) and spast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relationships between IGF-1 and thigh skeletal muscle cross-sectional areas (CSA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ypothesized that spasticity could defend against muscle atrophy and deleterious changes in body composition through its effects on IGF-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4200" y="1022400"/>
            <a:ext cx="850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 men with motor complete SCI underw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c resonance imaging to measure CSA of whole thigh, knee extensor, and knee flexor skeletal muscle grou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al-emission X-ray absorptiometry to measure fat-free m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then measured thei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F-1 leve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sticity (using Modified Ashworth Scale [MAS]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03040" y="1003320"/>
            <a:ext cx="38736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a IGF-1 44% greater in those with MAS scores ≥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a IGF-1 positively related to knee extensor skeletal muscle C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F-1 strongly related to knee extensor and flexor spast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4" descr="Picture 1.png"/>
          <p:cNvPicPr/>
          <p:nvPr/>
        </p:nvPicPr>
        <p:blipFill>
          <a:blip r:embed="rId1"/>
          <a:srcRect l="0" t="2191" r="0" b="0"/>
          <a:stretch/>
        </p:blipFill>
        <p:spPr>
          <a:xfrm>
            <a:off x="5054760" y="1092240"/>
            <a:ext cx="3333600" cy="4068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956120" y="5245200"/>
            <a:ext cx="398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onship between IGF-1 an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ee extensor spastici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ee extensor skeletal muscle C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7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s suggest that IGF-1 is greater in SCI individuals with increased spast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explain strong positive relationships noted between spasticity and skeletal muscle C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muscle mass via spasticity or electrical stimulation resistance training may benefit body composition and insulin sensitivity and thereby improve health after SC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6:55:05Z</dcterms:created>
  <dc:creator/>
  <dc:description/>
  <cp:keywords/>
  <dc:language>en-US</dc:language>
  <cp:lastModifiedBy>EIE Desktop Technologies</cp:lastModifiedBy>
  <dcterms:modified xsi:type="dcterms:W3CDTF">2012-05-08T16:03:55Z</dcterms:modified>
  <cp:revision>243</cp:revision>
  <dc:subject/>
  <dc:title>Pilot study for quantifying driving characteristics during  power wheelchair soccer </dc:title>
</cp:coreProperties>
</file>