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06A-D398-4AEF-A25E-6A8B3A65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728-41F5-4E3E-8D69-6C02B9EC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DF9-147E-48F5-9522-76F6958A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090-FE6A-40FD-A9E6-8BEA06FE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5DDD-22CF-47DC-ADCD-08019B4A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8C86-B1DA-481A-B985-4D5B72FE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717D-9C5C-4DDF-B900-E74D4218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C4CF-32C7-40E0-A941-74642031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ADAD-F794-4673-BF7F-7A126352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7D20-BB75-48CE-BBF4-ED1DDFF7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1DAC-3066-48B2-97F0-4F5A255D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C9A-C2A7-426D-B63D-8E388EE3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A354-8E51-4CCB-8EAA-6604AE2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44A6-8511-4C1E-A177-35B79946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0677-801C-4B82-8638-311FB201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3739-3F96-402A-B3EE-6C7C2DE8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5A3A-BAC1-47EA-A5B8-9AD15E49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A63-9915-4E28-B21C-9E033BFE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444-8E7A-4B2C-9434-5E530B9F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76A-581F-4D47-AEE8-C376A695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69B-8711-477D-A1BB-1574E994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2E3-30CD-41B2-931E-D809C0A1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DF4-C270-4149-A6FD-523451D2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5E94-12F8-4E2C-BDDF-C6752973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1C06B-3996-486E-8137-D6013822CF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s article and any supplementary material should be cited as follows:  Melcer T, Belnap B, Walker GJ, Konoske P, Galarneau M. Heterotopic ossification in combat amputees from Afghanistan and Iraq wars: Five case histories and results from a small series of patients. J Rehabil Res Dev. 2011; 48(1):1–12.  DOI:10.1682/JRRD.2010.03.003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F75A1-BB63-42C9-A2D7-F04A386E2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owerpoint background 27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Box 7"/>
          <p:cNvSpPr/>
          <p:nvPr/>
        </p:nvSpPr>
        <p:spPr>
          <a:xfrm>
            <a:off x="231840" y="6272280"/>
            <a:ext cx="87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article and any supplementary material should be cited as follows: Kim DS, Wall Emerson R, Naghshineh K, Pliskow J, Myers K. Impact of adding artificially generated alert sound to hybrid electric vehicles on their detectability by pedestrians who are blind. J Rehabil Res Dev. 2012; 43(3):381–94. http://dx.doi.org/10.1682/JRRD.2011.03.004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8"/>
          <p:cNvSpPr/>
          <p:nvPr/>
        </p:nvSpPr>
        <p:spPr>
          <a:xfrm>
            <a:off x="6553080" y="53172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show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I:10.1682/JRRD. 2011.03.0041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Powerpoint background 27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31840" y="6272280"/>
            <a:ext cx="87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article and any supplementary material should be cited as follows: Kim DS, Wall Emerson R, Naghshineh K, Pliskow J, Myers K. Impact of adding artificially generated alert sound to hybrid electric vehicles on their detectability by pedestrians who are blind. J Rehabil Res Dev. 2012; 43(3):381–94. http://dx.doi.org/10.1682/JRRD.2011.03.004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6553080" y="53172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show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I:10.1682/JRRD. 2011.03.0041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BE21F-4500-44C1-A7E6-57F19E1CD8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This article and any supplementary material should be ci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as follow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Wier LM, Hatcher MS, Triche EW, Lo AC. Effect of robotass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versus conventional body-weight-supported treadmi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training on quality of life for people with multiple sclero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J Rehabil Res Dev. 2011;48(4):XX–X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DOI:10.1682/JRRD/2010.03.00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5D1DD-CB89-4DB2-B417-C922A644A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8720" y="1615680"/>
            <a:ext cx="853740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Impact of adding artificially generated alert sound to hybrid electric vehicles on their detectability by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pedestrians who are blind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4800" y="4231800"/>
            <a:ext cx="797400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e Shik Kim, PhD; Robert Wall Emerson, PhD; Koorosh Naghshineh, PhD; Jay Pliskow, M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yle Myers, 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39480" y="11192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estigate how addition of artificially generated sound affects blind pedestrians’ detectability of hybrid electric vehicles (HEVs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ential impact of hybrid and battery electric vehicles on mobility of blind pedestrians topic of interest in popular med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 quieter vehicles may be more dangerous to blind pedestrians, who often rely on hearing vehicles to navigate and travel safe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7800" y="1049400"/>
            <a:ext cx="850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 legally blind adults attempted to detec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vehicles at 2 test si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hic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size HEV sed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make and model HEV sedan with Vehicle Sound for Pedestrians (VSP)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make and model internal combustion engine (ICE) sed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Si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parking l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adway near busy interstate and stre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11040" y="100980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ion Dist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hic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SP vehicle detected significantly further away than HEV but not I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pite sound level difference between parking lot and roadway, no significant differ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vehicle x site interaction f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worth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d crossing margin (from –0.4 to 2.1 s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forward VS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1120" y="1293840"/>
            <a:ext cx="780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V with VSP was detected at significantly farther distance than same HEV without VS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pping hybrid and electric vehicles with sound system that emits an alerting sound in certain low-speed maneuver conditions may contribute to the safety of blind pedestria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9:39:20Z</dcterms:created>
  <dc:creator/>
  <dc:description/>
  <cp:keywords/>
  <dc:language>en-US</dc:language>
  <cp:lastModifiedBy>EIE Desktop Technologies</cp:lastModifiedBy>
  <dcterms:modified xsi:type="dcterms:W3CDTF">2012-04-26T13:16:54Z</dcterms:modified>
  <cp:revision>238</cp:revision>
  <dc:subject/>
  <dc:title>Pilot study for quantifying driving characteristics during  power wheelchair socce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