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04466-B434-44C2-87DC-CD343642D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C77B5-1F52-42D6-A89B-CBAB29B27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F0C55-7992-452C-9B04-245AFE8A0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388B7-518F-41B2-B3B5-7AC521716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DB2CA-EF8C-447A-AE46-47C2F6CF0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7F8EA-C425-459C-B26D-C7928E786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B8B9A-C9B6-4D36-A3CC-B509F4D1C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B54B6-6301-4605-8BBE-57F30E1F0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776C1-52EC-4DAF-B22C-74D616B60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A415A-5B59-4C47-BE37-7A157BD87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755AA-A6FF-4979-A014-8F336EDDB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7DD1A-62FA-477B-A6AE-4A4041E8E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5F822-F02C-4D27-919E-1FB1CA50F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00CCB-0598-40F0-BAD3-EBCDEA9E7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EF035-F16A-4EC0-9573-8FF5F41B2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A9623-6EDD-4E11-B9FC-C607FC34B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9CB00-842A-4886-A2D9-933F4FB61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8FDCF-6A82-4133-AF3F-29E7B3B0E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0EA58-4597-40B2-9EF3-D9E1D9A0D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A0008-1C3F-4A88-891E-FBB4FC18D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D58EC-475D-4960-9105-E77AB10D4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FF592-F6F3-4307-87D5-9485A8101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5A843-FE81-4AD7-A027-7F61A22E6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5A4E2-FFC6-43A3-B122-250CE40F2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0AEFC9-25D5-451E-93B2-2B7F8F912FB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57200" y="6356520"/>
            <a:ext cx="8229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is article and any supplementary material should be cited as follows:  Melcer T, Belnap B, Walker GJ, Konoske P, Galarneau M. Heterotopic ossification in combat amputees from Afghanistan and Iraq wars: Five case histories and results from a small series of patients. J Rehabil Res Dev. 2011; 48(1):1–12.  DOI:10.1682/JRRD.2010.03.0033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D3AC9E-04A9-4B8A-BA1C-9F531B313B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owerpoint background 27%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" name="TextBox 7"/>
          <p:cNvSpPr/>
          <p:nvPr/>
        </p:nvSpPr>
        <p:spPr>
          <a:xfrm>
            <a:off x="63360" y="6276960"/>
            <a:ext cx="9017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his article and any supplementary material should be cited as follows: Smit CA, Legemate KJ, de Koning A, de Groot S, Stolwijk-Swuste JM, Janssen TW. Prolonged electrical stimulation-induced gluteal and hamstring muscle activation and sitting pressure in spinal cord injury: Effect of duty cycle. J Rehabil Res Dev. 2013;50(7):1035–46. http://dx.doi.org/10.1682/JRRD.2012.07.013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TextBox 8"/>
          <p:cNvSpPr/>
          <p:nvPr/>
        </p:nvSpPr>
        <p:spPr>
          <a:xfrm>
            <a:off x="6553080" y="531720"/>
            <a:ext cx="2590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lideshow Proj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OI:10.1682/JRRD.2012.07.0134JS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80F096E-9AB5-4685-98D8-EB1822153CDD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1193137-88CC-4AF5-A52D-305D56316BF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7" descr="Powerpoint background 27%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TextBox 7"/>
          <p:cNvSpPr/>
          <p:nvPr/>
        </p:nvSpPr>
        <p:spPr>
          <a:xfrm>
            <a:off x="63360" y="6276960"/>
            <a:ext cx="9017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his article and any supplementary material should be cited as follows: Smit CA, Legemate KJ, de Koning A, de Groot S, Stolwijk-Swuste JM, Janssen TW. Prolonged electrical stimulation-induced gluteal and hamstring muscle activation and sitting pressure in spinal cord injury: Effect of duty cycle. J Rehabil Res Dev. 2013;50(7):1035–46. http://dx.doi.org/10.1682/JRRD.2012.07.013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8"/>
          <p:cNvSpPr/>
          <p:nvPr/>
        </p:nvSpPr>
        <p:spPr>
          <a:xfrm>
            <a:off x="6553080" y="531720"/>
            <a:ext cx="2590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lideshow Proj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OI:10.1682/JRRD.2012.07.0134JS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7" descr="Powerpoint background 27%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TextBox 7"/>
          <p:cNvSpPr/>
          <p:nvPr/>
        </p:nvSpPr>
        <p:spPr>
          <a:xfrm>
            <a:off x="63360" y="6276960"/>
            <a:ext cx="9017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his article and any supplementary material should be cited as follows: Smit CA, Legemate KJ, de Koning A, de Groot S, Stolwijk-Swuste JM, Janssen TW. Prolonged electrical stimulation-induced gluteal and hamstring muscle activation and sitting pressure in spinal cord injury: Effect of duty cycle. J Rehabil Res Dev. 2013;50(7):1035–46. http://dx.doi.org/10.1682/JRRD.2012.07.013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8"/>
          <p:cNvSpPr/>
          <p:nvPr/>
        </p:nvSpPr>
        <p:spPr>
          <a:xfrm>
            <a:off x="6553080" y="531720"/>
            <a:ext cx="2590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lideshow Proj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OI:10.1682/JRRD.2012.07.0134JS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7" descr="Powerpoint background 27%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Box 7"/>
          <p:cNvSpPr/>
          <p:nvPr/>
        </p:nvSpPr>
        <p:spPr>
          <a:xfrm>
            <a:off x="63360" y="6276960"/>
            <a:ext cx="9017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his article and any supplementary material should be cited as follows: Smit CA, Legemate KJ, de Koning A, de Groot S, Stolwijk-Swuste JM, Janssen TW. Prolonged electrical stimulation-induced gluteal and hamstring muscle activation and sitting pressure in spinal cord injury: Effect of duty cycle. J Rehabil Res Dev. 2013;50(7):1035–46. http://dx.doi.org/10.1682/JRRD.2012.07.013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8"/>
          <p:cNvSpPr/>
          <p:nvPr/>
        </p:nvSpPr>
        <p:spPr>
          <a:xfrm>
            <a:off x="6553080" y="531720"/>
            <a:ext cx="2590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lideshow Proj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OI:10.1682/JRRD.2012.07.0134JS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7" descr="Powerpoint background 27%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9" name="TextBox 7"/>
          <p:cNvSpPr/>
          <p:nvPr/>
        </p:nvSpPr>
        <p:spPr>
          <a:xfrm>
            <a:off x="63360" y="6276960"/>
            <a:ext cx="9017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his article and any supplementary material should be cited as follows: Smit CA, Legemate KJ, de Koning A, de Groot S, Stolwijk-Swuste JM, Janssen TW. Prolonged electrical stimulation-induced gluteal and hamstring muscle activation and sitting pressure in spinal cord injury: Effect of duty cycle. J Rehabil Res Dev. 2013;50(7):1035–46. http://dx.doi.org/10.1682/JRRD.2012.07.013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8"/>
          <p:cNvSpPr/>
          <p:nvPr/>
        </p:nvSpPr>
        <p:spPr>
          <a:xfrm>
            <a:off x="6553080" y="531720"/>
            <a:ext cx="2590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lideshow Proj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OI:10.1682/JRRD.2012.07.0134JS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87000" y="1779120"/>
            <a:ext cx="8386920" cy="16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longed electrical stimulation-induced gluteal and hamstring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uscle activation and sitting pressure in spinal cord injury: Effect of duty cycl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231840" y="4247640"/>
            <a:ext cx="8610480" cy="93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Christof A. J. Smit, MD; Karin J. A. Legemate, MSc; </a:t>
            </a:r>
            <a:br>
              <a:rPr sz="2500"/>
            </a:b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Anja de Koning, MSc; Sonja de Groot, PhD; </a:t>
            </a:r>
            <a:br>
              <a:rPr sz="2500"/>
            </a:b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Janneke M. Stolwijk-Swuste, MD, PhD; Thomas W. J. Janssen, PhD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141120" y="890640"/>
            <a:ext cx="8577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i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udy effects of 2 duty cycles during 3 h of electrical stimulation (ES)-induced gluteal and hamstring activation on interface pressure distribution in sitting individuals with spinal cord injury (SCI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udy usability of newly developed electrode garment (ES shorts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lev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essure ulcers (PUs) are highly prevalent in people with SCI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S activates muscles and might reduce risk facto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81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etho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236160" y="1190520"/>
            <a:ext cx="8575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 individuals with SCI participated in study and completed questionnair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 ES protocols with different duty cycles (1:1 vs 1:4 s on-off) were applied in counterbalanced order using custom-made ES shorts with built-in electrod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utcome variables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terface pressure of ischial tuberosities (ITs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essure gradien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204480" y="1076040"/>
            <a:ext cx="8481960" cy="474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both protocol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S significantly decreased average IT pressure compared with no 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tocol 1:4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howed less muscle fatigu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ability of ES short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rticipants scored as satisfactor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85320"/>
            <a:ext cx="8229600" cy="80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236160" y="1255680"/>
            <a:ext cx="8372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S applicati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gnificantly decreased IT pressure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tocol 1:4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commended because has less fatiguing effec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S of the hamstrings and gluteal muscles might be promising method of preventing Pu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t further study is need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6T18:36:42Z</dcterms:created>
  <dc:creator>Rebecca</dc:creator>
  <dc:description/>
  <dc:language>en-US</dc:language>
  <cp:lastModifiedBy>Bartlinski, David</cp:lastModifiedBy>
  <dcterms:modified xsi:type="dcterms:W3CDTF">2013-10-23T14:55:40Z</dcterms:modified>
  <cp:revision>536</cp:revision>
  <dc:subject/>
  <dc:title>Pilot study for quantifying driving characteristics during  power wheelchair soccer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MarkAsFinal">
    <vt:bool>1</vt:bool>
  </property>
</Properties>
</file>